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861-AC60-4370-B762-BEDE3164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BF9-C1A9-42E9-8CE3-A89B953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3C5-963A-4DE8-AD0C-87C6C9DE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1D2-5DF8-4B2C-B473-2AD14567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371-4D32-4508-994A-4AB4F257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89F-D555-4609-8515-E62E2CB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192-9C0F-4EC2-9409-9DF9F628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F79-ED6E-4C8C-BFA9-A8779B73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52F-7BEA-458D-AB9F-BF58CF9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896-32C2-4C3A-9529-BB12904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B89-5B6A-4768-8809-53F5B29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4AE-06EC-4039-BCB1-3B99D22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E67-0AA1-425E-8653-5CE5D4C7F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8763120" cy="701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0666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24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16720" y="457200"/>
            <a:ext cx="276516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1182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820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11556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4876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571680"/>
            <a:ext cx="4952880" cy="571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-138240"/>
            <a:ext cx="5429520" cy="699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5129" r="5127" b="0"/>
          <a:stretch/>
        </p:blipFill>
        <p:spPr>
          <a:xfrm>
            <a:off x="3048120" y="2057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21755"/>
          <a:stretch/>
        </p:blipFill>
        <p:spPr>
          <a:xfrm>
            <a:off x="3581280" y="0"/>
            <a:ext cx="289080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3161" t="21056" r="13161" b="0"/>
          <a:stretch/>
        </p:blipFill>
        <p:spPr>
          <a:xfrm>
            <a:off x="7010280" y="83808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657600" y="2743200"/>
            <a:ext cx="205092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0600" y="2971800"/>
            <a:ext cx="77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4320" y="0"/>
            <a:ext cx="52545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76640" y="1238400"/>
            <a:ext cx="4590720" cy="43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22580" t="10798" r="24731" b="19010"/>
          <a:stretch/>
        </p:blipFill>
        <p:spPr>
          <a:xfrm>
            <a:off x="3581280" y="2362320"/>
            <a:ext cx="2514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3:30Z</dcterms:created>
  <dc:creator>Patrick J. Mooney</dc:creator>
  <dc:description/>
  <dc:language>en-US</dc:language>
  <cp:lastModifiedBy>Patrick J. Mooney</cp:lastModifiedBy>
  <dcterms:modified xsi:type="dcterms:W3CDTF">2010-10-14T03:47:01Z</dcterms:modified>
  <cp:revision>14</cp:revision>
  <dc:subject/>
  <dc:title>Slide 1</dc:title>
</cp:coreProperties>
</file>